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8FB6-188D-4DC3-B96A-6C5B6DD0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748-8B30-49A5-9588-1D3376D3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C56-3F5A-4FC0-8989-BD961B58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DF4-44D8-4C27-837D-ACFB6088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A6F-6BF8-424B-AFD8-7D56408B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E2D-560F-46BE-BBA9-0672E9E6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299-332D-4C7A-B3AF-FE545842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7EA-4C2E-42B8-A435-842D4143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45E-223F-48D8-80FA-397EDD87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32E-C649-4128-815C-41497182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534-9147-4872-AB7E-ADE5F205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C5D-0B54-4EFD-8FDE-98F087AD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DA74-BC69-437B-B659-F37172E86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s comidas de Mexico son difererente de Estados Unid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comida  de Mexico esta bueno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males, tacos, enchiladas, chiles jalapeño ,picot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11640" y="2306520"/>
            <a:ext cx="31114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s animales de Mexico fuer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 Mexico ay muchos ani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y perros, gatos, bacas, chivos , y cavallo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38720" y="171936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da33"/>
                </a:solidFill>
                <a:latin typeface="Arial"/>
              </a:rPr>
              <a:t>Los de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9:09Z</dcterms:created>
  <dc:creator>WSFCS Workstation</dc:creator>
  <dc:description/>
  <dc:language>en-US</dc:language>
  <cp:lastModifiedBy>WSFCS Workstation</cp:lastModifiedBy>
  <dcterms:modified xsi:type="dcterms:W3CDTF">2010-04-26T18:57:42Z</dcterms:modified>
  <cp:revision>2</cp:revision>
  <dc:subject/>
  <dc:title>Comidas</dc:title>
</cp:coreProperties>
</file>